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771-A774-4C1E-AA29-DB93B4B7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584-8425-4E5B-84E9-EEF425E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4FE-7C18-46C2-869B-8C23B621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9D2-AB56-4A1F-AE94-05BE78B1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AAAB-F4DF-472F-A14A-BD588E19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5DD9-CF0F-410E-81B3-1584106C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292B-B0D5-4B26-AE34-346EC0A0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905-3DC9-4FB2-9BA1-6C8F9D8A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398B-7583-48DB-98D6-DED880CC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EC9-8276-428D-8588-40F05A11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EBBA-3D0C-46EC-8B48-EBD4167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5BF-2B69-498C-9F77-D923BD43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4F2-D190-41DD-845C-5AAB68A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162-F87F-4E90-9F9F-F3BF70E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318F-858D-47FF-8E75-F2B4A05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B3DA-8AAC-44B4-AE30-7E03DBF6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D01-DACE-490F-86CA-5D8F7B7E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862-E402-41B3-A869-69D20ED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1A3-F531-4311-ACF3-7480F535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509-BF12-4331-8FE9-83145491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F73-C0D4-4976-85D3-989BB60D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863-5354-4337-960B-1AC9C89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B42-AFCB-49A9-88DB-48F53BC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FB2-4D72-4C4E-83DE-8285E60E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1" marL="343080" indent="-343080">
              <a:spcBef>
                <a:spcPts val="751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2" marL="343080" indent="-343080">
              <a:spcBef>
                <a:spcPts val="751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3" marL="343080" indent="-343080">
              <a:spcBef>
                <a:spcPts val="751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4" marL="343080" indent="-343080">
              <a:spcBef>
                <a:spcPts val="751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6F4-B6B4-4C42-8A78-326C7BBB00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14200" y="6081840"/>
            <a:ext cx="1233720" cy="776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848720" y="6113520"/>
            <a:ext cx="895320" cy="7063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8243640" y="2286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CF3-5771-4401-B49F-F2514D1E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A078-75E3-4D3F-B971-8961811CE5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4200" y="5943600"/>
            <a:ext cx="1233720" cy="7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48720" y="5975280"/>
            <a:ext cx="895320" cy="70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43640" y="2286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5BD6-A246-4800-8FFF-A34A060D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5f5f5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fbf39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fbf39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bf3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fbf3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412640"/>
            <a:ext cx="7623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New Lunar Soil Simulants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Times New Roman"/>
              </a:rPr>
              <a:t>in Japan</a:t>
            </a:r>
            <a:endParaRPr b="0" lang="en-US" sz="44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3573360"/>
            <a:ext cx="4464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ace Resource Roundtable - 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ct. 31- Nov. 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0000" y="4508640"/>
            <a:ext cx="418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imes New Roman"/>
              </a:rPr>
              <a:t>Hiroshi TAKED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hiba Institute of Technolog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imes New Roman"/>
              </a:rPr>
              <a:t>Kai MATSU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imes New Roman"/>
              </a:rPr>
              <a:t>Akira MIYAHAR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unar Exploration Technology Offic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JAX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4508640"/>
            <a:ext cx="3025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imes New Roman"/>
              </a:rPr>
              <a:t>Hiroshi KANAM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imes New Roman"/>
              </a:rPr>
              <a:t>Shigeru A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nstitute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HIMIZU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Recommended Raw Material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– the Chemical Composition (Bulk)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01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ngle Cas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2060640"/>
            <a:ext cx="10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-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060640"/>
            <a:ext cx="4032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A: Basalt (Hawa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: Gabbro (Kohyama, 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A: Basalt (Hawa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-A: Anorthosite (Still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-A: Anorthosite (Still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: Gabbro (Kohyama, 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-A: Anorthosite (Still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A: Basalt (Hawa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Bytownite (Minnes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: Gabbro (Kohyama, 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: Gabbro (Kohyama, 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-A: Anorthosite (Still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2060640"/>
            <a:ext cx="1152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.7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.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.8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5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.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.3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.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1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1628640"/>
            <a:ext cx="68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2781360"/>
            <a:ext cx="57610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3429000"/>
            <a:ext cx="57610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4076640"/>
            <a:ext cx="57610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4724280"/>
            <a:ext cx="57610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5373720"/>
            <a:ext cx="57610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Recommended Raw Material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– the Chemical Composition (Bulk) 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016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ixed Cas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933720"/>
            <a:ext cx="86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8900000">
            <a:off x="1434600" y="2674440"/>
            <a:ext cx="28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Bytownite (Minnes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3933720"/>
            <a:ext cx="1152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.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.5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0.7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.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.7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.6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3480" y="3500280"/>
            <a:ext cx="144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900000">
            <a:off x="2128320" y="2612880"/>
            <a:ext cx="3046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: Forsterite (S. Califor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900000">
            <a:off x="2865600" y="2649240"/>
            <a:ext cx="295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-A: Forsterite (Pakist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900000">
            <a:off x="4336920" y="2727000"/>
            <a:ext cx="2733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 Ilmenite (Austra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900000">
            <a:off x="4973760" y="2522160"/>
            <a:ext cx="3309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-A: Anorthosite (Still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8900000">
            <a:off x="5667480" y="2457360"/>
            <a:ext cx="3487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: Gabbro (Kohyama, 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4920" y="3933720"/>
            <a:ext cx="718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3840" y="3933720"/>
            <a:ext cx="71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3120" y="3933720"/>
            <a:ext cx="718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1320" y="3933720"/>
            <a:ext cx="71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0600" y="3933720"/>
            <a:ext cx="718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933720"/>
            <a:ext cx="71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8900000">
            <a:off x="969840" y="2476440"/>
            <a:ext cx="289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Mix Proportion: wt%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900000">
            <a:off x="3564000" y="2636640"/>
            <a:ext cx="295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: Bronzite (Califor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9640" y="1536840"/>
            <a:ext cx="8416080" cy="4559040"/>
            <a:chOff x="539640" y="1536840"/>
            <a:chExt cx="8416080" cy="4559040"/>
          </a:xfrm>
        </p:grpSpPr>
        <p:sp>
          <p:nvSpPr>
            <p:cNvPr id="184" name=""/>
            <p:cNvSpPr/>
            <p:nvPr/>
          </p:nvSpPr>
          <p:spPr>
            <a:xfrm>
              <a:off x="539640" y="4292640"/>
              <a:ext cx="741708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4653000"/>
              <a:ext cx="741708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5013360"/>
              <a:ext cx="7417080" cy="144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5373720"/>
              <a:ext cx="7417080" cy="144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5734080"/>
              <a:ext cx="7417080" cy="324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47636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19564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91456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63384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7672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9600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1528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40" y="3933720"/>
              <a:ext cx="741708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9640" y="6093000"/>
              <a:ext cx="7417080" cy="288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3964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95960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528200" y="1536840"/>
              <a:ext cx="2342520" cy="23425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248560" y="1537200"/>
              <a:ext cx="2341800" cy="234180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963160" y="1552680"/>
              <a:ext cx="2368440" cy="233496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409640" y="1536840"/>
              <a:ext cx="2342520" cy="23425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127840" y="1537920"/>
              <a:ext cx="2340720" cy="234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48560" y="1537920"/>
              <a:ext cx="2340720" cy="234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55600" y="1571400"/>
              <a:ext cx="2400120" cy="232596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674520" y="1571760"/>
              <a:ext cx="2399760" cy="232560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356000" y="3933720"/>
              <a:ext cx="0" cy="216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35280" y="3933720"/>
            <a:ext cx="71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6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8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6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Recommended Mixture of Raw Material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– Modal Abundances 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373720"/>
            <a:ext cx="1150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igh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000000">
            <a:off x="1331640" y="3573360"/>
            <a:ext cx="36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: Ilmenite (Austra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5640" y="1533960"/>
            <a:ext cx="7669800" cy="4560480"/>
            <a:chOff x="755640" y="1533960"/>
            <a:chExt cx="7669800" cy="4560480"/>
          </a:xfrm>
        </p:grpSpPr>
        <p:sp>
          <p:nvSpPr>
            <p:cNvPr id="214" name=""/>
            <p:cNvSpPr/>
            <p:nvPr/>
          </p:nvSpPr>
          <p:spPr>
            <a:xfrm>
              <a:off x="755640" y="5373720"/>
              <a:ext cx="669600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640" y="5734080"/>
              <a:ext cx="669600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5640" y="6093000"/>
              <a:ext cx="669600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90980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62908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34800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06728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78620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50548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224760" y="5373720"/>
              <a:ext cx="0" cy="72072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905120" y="1563840"/>
              <a:ext cx="2179440" cy="377136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625480" y="1556640"/>
              <a:ext cx="2183400" cy="377820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349080" y="1533960"/>
              <a:ext cx="2196720" cy="380196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68000" y="1534320"/>
              <a:ext cx="2197080" cy="380160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788720" y="1534320"/>
              <a:ext cx="2197080" cy="380160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08000" y="1533960"/>
              <a:ext cx="2196720" cy="380196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228720" y="1533960"/>
              <a:ext cx="2196720" cy="3801960"/>
            </a:xfrm>
            <a:prstGeom prst="line">
              <a:avLst/>
            </a:prstGeom>
            <a:ln w="1260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rot="18000000">
            <a:off x="1571760" y="2784240"/>
            <a:ext cx="5422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-A: Anorthosite (Stillwater) / 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8000000">
            <a:off x="2490840" y="3085560"/>
            <a:ext cx="4724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C: Basalt (Oshima, Japan) /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8000000">
            <a:off x="3282480" y="3209760"/>
            <a:ext cx="443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: Gabbro (Kohyama, Japan) / 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8000000">
            <a:off x="3892680" y="2950920"/>
            <a:ext cx="5035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: Gabbro (Kohyama, Japan) / O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8000000">
            <a:off x="4697280" y="316656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: Gabbro (Kohyama, Japan) / Aug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8000" y="5373720"/>
            <a:ext cx="7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8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5373720"/>
            <a:ext cx="7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4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6560" y="5373720"/>
            <a:ext cx="71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5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5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5480" y="5373720"/>
            <a:ext cx="7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5373720"/>
            <a:ext cx="7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4040" y="5373720"/>
            <a:ext cx="718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8000000">
            <a:off x="972000" y="3572280"/>
            <a:ext cx="30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(Mix Proportion: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537372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4869000"/>
            <a:ext cx="107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2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4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8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2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4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6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Modal Abundance of Mineral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in Typical Apollo Samples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3671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2565360"/>
            <a:ext cx="1873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lagio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lme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Oli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yro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2565360"/>
            <a:ext cx="2016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Volc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gglutini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O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ig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g- C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Fe- C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565360"/>
            <a:ext cx="122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24720" y="134136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t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716360" y="2133720"/>
            <a:ext cx="3818160" cy="576000"/>
            <a:chOff x="4716360" y="2133720"/>
            <a:chExt cx="3818160" cy="576000"/>
          </a:xfrm>
        </p:grpSpPr>
        <p:sp>
          <p:nvSpPr>
            <p:cNvPr id="252" name=""/>
            <p:cNvSpPr/>
            <p:nvPr/>
          </p:nvSpPr>
          <p:spPr>
            <a:xfrm>
              <a:off x="4716360" y="2133720"/>
              <a:ext cx="1225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08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2000" y="2133720"/>
              <a:ext cx="1225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106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08720" y="2133720"/>
              <a:ext cx="1225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114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16360" y="170028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ollo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2565360"/>
            <a:ext cx="122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08720" y="2565360"/>
            <a:ext cx="122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71640" y="2637000"/>
            <a:ext cx="7632720" cy="3093840"/>
            <a:chOff x="971640" y="2637000"/>
            <a:chExt cx="7632720" cy="3093840"/>
          </a:xfrm>
        </p:grpSpPr>
        <p:sp>
          <p:nvSpPr>
            <p:cNvPr id="259" name=""/>
            <p:cNvSpPr/>
            <p:nvPr/>
          </p:nvSpPr>
          <p:spPr>
            <a:xfrm>
              <a:off x="971640" y="2637000"/>
              <a:ext cx="7632720" cy="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71640" y="3022560"/>
              <a:ext cx="763272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1640" y="3409920"/>
              <a:ext cx="763272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71640" y="3795840"/>
              <a:ext cx="763272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6000" y="4183200"/>
              <a:ext cx="604836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1640" y="4568760"/>
              <a:ext cx="763272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556000" y="4955760"/>
              <a:ext cx="6048360" cy="180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56000" y="5343480"/>
              <a:ext cx="604836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6000" y="5730840"/>
              <a:ext cx="604836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4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Chemical Composition of New Lunar Soil Simulants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56720" y="1413000"/>
            <a:ext cx="79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wt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3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Elemen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SiO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TiO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Al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Cr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Fe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Fe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Mn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Mg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Ca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Na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P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marL="31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1700280"/>
            <a:ext cx="1008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2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.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9.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9872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6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.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9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0836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9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1800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6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2764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.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3872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-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2203560"/>
            <a:ext cx="84978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5803920"/>
            <a:ext cx="84247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4836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FJS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49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.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6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8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4.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3.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2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98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Osh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4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5.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2.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6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9.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6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6.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2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99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67640" y="1700280"/>
            <a:ext cx="1008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Kohy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47.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22.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7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0.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8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1.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99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2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2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2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4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6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8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2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4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2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Future Works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413000"/>
            <a:ext cx="84358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imulating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gt; Additional Investigation on the Raw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gt; Agglutinate and G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gt; Grain Level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gt; Mass-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gt; Simulated Lunar 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Reproduction of Bulk Dens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Mixing Condition of stones/ ice (&gt; 2m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En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Background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7400" y="1580040"/>
            <a:ext cx="6802200" cy="17809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Activated Research on Lunar Exploration (Large Demands for the Simulants)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Running out of MLS-1, JSC-1, and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FJS-1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(Small Supply of the Simulants)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3745080"/>
            <a:ext cx="4895640" cy="21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velopmen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w’ Lunar Soil Simu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Internationa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340000" y="3599640"/>
            <a:ext cx="1295280" cy="1584360"/>
          </a:xfrm>
          <a:custGeom>
            <a:avLst/>
            <a:gdLst>
              <a:gd name="textAreaLeft" fmla="*/ 0 w 1295280"/>
              <a:gd name="textAreaRight" fmla="*/ 1295640 w 1295280"/>
              <a:gd name="textAreaTop" fmla="*/ -360 h 1584360"/>
              <a:gd name="textAreaBottom" fmla="*/ 1584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75" stAng="10800000" swAng="5400000"/>
                <a:lnTo>
                  <a:pt x="13579" y="3085"/>
                </a:lnTo>
                <a:lnTo>
                  <a:pt x="13579" y="0"/>
                </a:lnTo>
                <a:lnTo>
                  <a:pt x="21600" y="6079"/>
                </a:lnTo>
                <a:lnTo>
                  <a:pt x="13579" y="12158"/>
                </a:lnTo>
                <a:lnTo>
                  <a:pt x="13579" y="9073"/>
                </a:lnTo>
                <a:lnTo>
                  <a:pt x="12427" y="9073"/>
                </a:lnTo>
                <a:arcTo wR="6439" hR="3087" stAng="16200000" swAng="-5400000"/>
                <a:lnTo>
                  <a:pt x="5988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Goals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6920" y="1555920"/>
            <a:ext cx="8318880" cy="9846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 develop various types of Lunar Soil Simulant, which meet 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2708280"/>
            <a:ext cx="7632720" cy="1174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the regional need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mare, highland, etc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3776760"/>
            <a:ext cx="7632720" cy="1120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99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the property needs,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mechanical, chemical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58680" y="4794120"/>
            <a:ext cx="7632720" cy="11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99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the supply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quickly, enough amount, reasonable pri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Study Flow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26828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ampling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Raw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6320" y="1268280"/>
            <a:ext cx="44593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Min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situ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f th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2708280"/>
            <a:ext cx="475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6600" indent="-42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omposition (Bu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al Abundance (EP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708280"/>
            <a:ext cx="333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Characte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14972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Determination of Mix Proportions /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94172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4.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Trial Manufacturing of New Simul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Criteria for the Selection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of Raw Materials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Approximated to the Bulk Chemical Composition of Lunar Mare/ Highland Samp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Used as Base (Root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571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Pure Minerals Contained in Lunar Sampl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Used as Additiv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571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Adaptable to the Mass-Production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Possible Raw Materials (1)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1341360"/>
            <a:ext cx="613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Bas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.*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townite (Minnesota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ite (Norway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radorite (Madagascar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thosite (Stillwater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alt (Hawaii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alt (Oshima, Japa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JS-1 (Basalt/ Mt. Fuji, Japa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bbro (Kohyama, Japa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townite (Mexico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134136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ＭＳ Ｐゴシック"/>
              </a:rPr>
              <a:t>* Sampling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4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6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Possible Raw Materials (2)</a:t>
            </a:r>
            <a:endParaRPr b="0" lang="en-US" sz="42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360" y="1267920"/>
            <a:ext cx="6130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Additive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4.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sterite (Arizona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sterite (S. California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sterite (Hokkaido, Japa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sterite (Pakistan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nzite (California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tatite (Norway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menite (Australia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126828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ＭＳ Ｐゴシック"/>
              </a:rPr>
              <a:t>* Sampling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Evaluation of Raw Material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(Comparison with Apollo Samples)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2232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99"/>
                </a:solidFill>
                <a:uFillTx/>
                <a:latin typeface="Times New Roman"/>
              </a:rPr>
              <a:t>Method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042920" y="2349000"/>
            <a:ext cx="3456000" cy="1297440"/>
            <a:chOff x="1042920" y="2349000"/>
            <a:chExt cx="3456000" cy="1297440"/>
          </a:xfrm>
        </p:grpSpPr>
        <p:sp>
          <p:nvSpPr>
            <p:cNvPr id="123" name=""/>
            <p:cNvSpPr/>
            <p:nvPr/>
          </p:nvSpPr>
          <p:spPr>
            <a:xfrm>
              <a:off x="2122200" y="249372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Times New Roman"/>
                </a:rPr>
                <a:t>Σ (Li – Ci)</a:t>
              </a:r>
              <a:r>
                <a:rPr b="0" lang="en-US" sz="3000" spc="-1" strike="noStrike" baseline="20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42920" y="2781000"/>
              <a:ext cx="863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Times New Roman"/>
                </a:rPr>
                <a:t>R 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22200" y="2852640"/>
              <a:ext cx="5749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i =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2200" y="2349360"/>
              <a:ext cx="5749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71640" y="3070080"/>
              <a:ext cx="863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22200" y="3141360"/>
              <a:ext cx="2233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4920" y="3357360"/>
              <a:ext cx="7164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906560" y="2349000"/>
              <a:ext cx="215640" cy="1152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2200" y="2349360"/>
              <a:ext cx="23767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5640" y="551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elected a Condition that makes Minimum R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1989000"/>
            <a:ext cx="1176480" cy="3221640"/>
          </a:xfrm>
          <a:custGeom>
            <a:avLst/>
            <a:gdLst>
              <a:gd name="textAreaLeft" fmla="*/ 57240 w 1176480"/>
              <a:gd name="textAreaRight" fmla="*/ 1119240 w 1176480"/>
              <a:gd name="textAreaTop" fmla="*/ 57240 h 3221640"/>
              <a:gd name="textAreaBottom" fmla="*/ 3164400 h 3221640"/>
            </a:gdLst>
            <a:ahLst/>
            <a:rect l="textAreaLeft" t="textAreaTop" r="textAreaRight" b="textAreaBottom"/>
            <a:pathLst>
              <a:path w="21600" h="59137">
                <a:moveTo>
                  <a:pt x="3600" y="0"/>
                </a:moveTo>
                <a:arcTo wR="3600" hR="3600" stAng="16200000" swAng="-5400000"/>
                <a:lnTo>
                  <a:pt x="0" y="55537"/>
                </a:lnTo>
                <a:arcTo wR="3600" hR="3600" stAng="10800000" swAng="-5400000"/>
                <a:lnTo>
                  <a:pt x="18000" y="59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789360"/>
            <a:ext cx="66243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d on 7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: Content of #i Component in the Apollo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: Content of #i Component in a Raw/ M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Chemical Composition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of Typical Apollo Samples</a:t>
            </a:r>
            <a:endParaRPr b="0" lang="en-US" sz="3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187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22560" y="1916280"/>
            <a:ext cx="6406920" cy="576000"/>
            <a:chOff x="2122560" y="1916280"/>
            <a:chExt cx="6406920" cy="576000"/>
          </a:xfrm>
        </p:grpSpPr>
        <p:sp>
          <p:nvSpPr>
            <p:cNvPr id="138" name=""/>
            <p:cNvSpPr/>
            <p:nvPr/>
          </p:nvSpPr>
          <p:spPr>
            <a:xfrm>
              <a:off x="2122560" y="1916280"/>
              <a:ext cx="100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99"/>
                  </a:solidFill>
                  <a:latin typeface="Times New Roman"/>
                </a:rPr>
                <a:t>A-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3640" y="1916280"/>
              <a:ext cx="100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99"/>
                  </a:solidFill>
                  <a:latin typeface="Times New Roman"/>
                </a:rPr>
                <a:t>A-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82920" y="1916280"/>
              <a:ext cx="1008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99"/>
                  </a:solidFill>
                  <a:latin typeface="Times New Roman"/>
                </a:rPr>
                <a:t>A-1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62560" y="1916280"/>
              <a:ext cx="100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99"/>
                  </a:solidFill>
                  <a:latin typeface="Times New Roman"/>
                </a:rPr>
                <a:t>A-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42200" y="1916280"/>
              <a:ext cx="100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99"/>
                  </a:solidFill>
                  <a:latin typeface="Times New Roman"/>
                </a:rPr>
                <a:t>A-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1480" y="1916280"/>
              <a:ext cx="100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99"/>
                  </a:solidFill>
                  <a:latin typeface="Times New Roman"/>
                </a:rPr>
                <a:t>A-1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82560" y="2421000"/>
            <a:ext cx="14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iO</a:t>
            </a:r>
            <a:r>
              <a:rPr b="0" lang="en-US" sz="3000" spc="-1" strike="noStrike" baseline="-1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TiO</a:t>
            </a:r>
            <a:r>
              <a:rPr b="0" lang="en-US" sz="3000" spc="-1" strike="noStrike" baseline="-2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Al</a:t>
            </a:r>
            <a:r>
              <a:rPr b="0" lang="en-US" sz="3000" spc="-1" strike="noStrike" baseline="-10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3000" spc="-1" strike="noStrike" baseline="-10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M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Ca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a</a:t>
            </a:r>
            <a:r>
              <a:rPr b="0" lang="en-US" sz="3000" spc="-1" strike="noStrike" baseline="-10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3000" spc="-1" strike="noStrike" baseline="-10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2421000"/>
            <a:ext cx="100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3.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4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421000"/>
            <a:ext cx="100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6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2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9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2920" y="2421000"/>
            <a:ext cx="1008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8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2560" y="2421000"/>
            <a:ext cx="100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2421000"/>
            <a:ext cx="100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5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23280" y="2421000"/>
            <a:ext cx="100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3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2492280"/>
            <a:ext cx="7777080" cy="0"/>
          </a:xfrm>
          <a:prstGeom prst="line">
            <a:avLst/>
          </a:prstGeom>
          <a:ln w="1908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155736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t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0:09:22Z</dcterms:created>
  <dc:creator>HK</dc:creator>
  <dc:description/>
  <dc:language>en-US</dc:language>
  <cp:lastModifiedBy>HK</cp:lastModifiedBy>
  <dcterms:modified xsi:type="dcterms:W3CDTF">2006-11-06T07:01:36Z</dcterms:modified>
  <cp:revision>55</cp:revision>
  <dc:subject/>
  <dc:title>精密模擬月土壌の試作・分析 および仕様の検討作業支援 　　　　　　　成果報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8553520</vt:r8>
  </property>
  <property fmtid="{D5CDD505-2E9C-101B-9397-08002B2CF9AE}" pid="3" name="_AuthorEmail">
    <vt:lpwstr>kanamori@shimz.co.jp</vt:lpwstr>
  </property>
  <property fmtid="{D5CDD505-2E9C-101B-9397-08002B2CF9AE}" pid="4" name="_AuthorEmailDisplayName">
    <vt:lpwstr>Kanamori Hiroshi</vt:lpwstr>
  </property>
  <property fmtid="{D5CDD505-2E9C-101B-9397-08002B2CF9AE}" pid="5" name="_EmailSubject">
    <vt:lpwstr>presentation material</vt:lpwstr>
  </property>
</Properties>
</file>